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AF81-CBD3-44E4-B5A8-0685659DA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CC22-BE75-4F00-9011-97E785CF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F911-EF06-4E43-AE79-CDF5DC3AD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0340-FB50-4C98-9363-72C33F854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756FA-A992-4707-8582-C21E802C7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E32A1-F829-4D90-9A9E-95167660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BDF64-9121-4878-8378-DFF7E7C9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6A478-62D3-49E5-972C-CE623EFF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3CF00-C7FA-4636-B558-389826CE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CC6EF-4B67-4EA0-8895-12C7AA69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BC149-8592-4005-8D26-05D48A63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7F90-A940-45F6-B2BD-33577E6F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72513-964E-4DE9-8A6F-CAB32EA9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4F2CB-0609-4F98-8D16-1B3676D6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9A19C-17FC-41CF-A35C-136E1A10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3577C-B49B-4CC3-A569-5BBB25A1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49A8B-2789-49AA-8173-ECBD799F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4800-F200-47B1-BD99-4F2B4946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910E-39E1-403E-A690-AEC8C010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9FC3-3399-487C-822B-9FC97A31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C530-ABE5-4A77-8D49-594A0556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2428-8973-4A63-8490-EAAC842B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B20E-766F-4997-8525-C32F9C4D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4148-9BB7-4376-871D-CC9F2141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5865-2FBD-493D-8D57-0969D454A1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44C4-9912-4773-BA53-51543124DE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Introduction to Criticism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Common Approaches to Literary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8" descr="j0336914"/>
          <p:cNvPicPr/>
          <p:nvPr/>
        </p:nvPicPr>
        <p:blipFill>
          <a:blip r:embed="rId1"/>
          <a:stretch/>
        </p:blipFill>
        <p:spPr>
          <a:xfrm>
            <a:off x="5715000" y="5334120"/>
            <a:ext cx="80496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ormalist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malist Critics focus on what the work means (theme) and how it conveys its meaning (form)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malists believe that all the elements necessary for understanding the work are contained within the work itself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ormalist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malists look at the elements of form- style, structure, tone, imagery, etc.-that are found within the text. They try to determine how elements work together with the text's content to shape its effects upon reader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ormalist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uiding questions: How is the author’s style effecting this text? What techniques are use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ormalist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Lion King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irector’s use of colors in the sunset help to show the changing mood of Simba. .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iographical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biographical critic uses the information about the author’s life to interpret his or her view of the world and therefore his or her writ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uiding question: How did the author’s life experiences influence what he or she wrote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iographical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Lion King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uthor lost his father when he was young, which provided the experience for the story. The author was trying to blame his loss on forces of evil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istorical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approach looks at the social, and cultural context that existed when the work was writte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key goal for historical critics is to understand the effect of a literary work upon its original reader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istorical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uiding questions: What was the purpose for this text when it was originally written? How does it reflect societ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istorical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Lion King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eremony in the movie accurately represents the tribal ritual of the people of Zimbabw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ion King shows the hopeful nature of the 1990’s when the economy was booming. . 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ender/ Feminist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amines how sexual identity influences tex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eminist criticism believes that the sexist, patriarchal attitudes that have dominated the world for centuries have resulted in literature full of male dominance and sexual discriminatio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Literary Criticism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veryone knows how to summarize what you read- you tell the basic plot, characters, etc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ender/ Feminist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uiding questions: How are women treated in the text and why are they treated that way? How are the gender roles treate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ender/ Feminist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Lion King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vie marginalizes women. Why couldn’t Nala fight the evil? Where is Simba’s mother? Why did they need a man to save the day? This demonstrates the sexism inherent in modern literature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sychological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sychological criticism has a number of approaches, but in general, it is the study of human behavior- whether that human is the author or the character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is the study of motivations for behavior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sychological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 common things discussed in psychological criticism include the unconscious, dream interpretations, sexual motivation, the importance of childhood on adult development, neuroses, etc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sychological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uiding questions: What caused the character to act a certain way or the author to write something as he or she di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sychological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Lion King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Simba looses his father he shows classic signs of depression… Scar is a narcissistic character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ythological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ythological criticism studies myths and symbols common to different cultures, including various religion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ythological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key concept is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archetyp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"a symbol, character, situation, or image that evokes a deep universal response." Some examples of archetypes are the cross, and colors and what they tend to represen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ythological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chetypal story patterns include various stories of the creation of man, and stories about common social situations, like a first lov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ythological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uiding question: What archetypes are present in this text? What is it saying about the universal experiences of m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Literary Criticism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terary criticism is what you use to go beyond summary and into interpretation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itical theories are methods of interpretation. There are many different ways to interpret a text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ythological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Lion King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mba is a reluctant hero. He is Christ like in his ability to ward off evil and bring “salvation” to his kingdom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 Conclu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y of these critical theories can be used to interpret any given work. This includes novels, poems, short stories, song lyrics, movies, etc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also many more critical approaches and they go into great depth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ader’s Response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 are already using the first type of criticism we will discus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der’s Response Criticism is based on the idea that texts do not have a set meaning; meanings come from the reader and are personal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ader’s Response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wo different readers may have completely different interpretations of the same tex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kewise, a reader who re-reads a work later may find the work shockingly different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ader’s Response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der-response criticism emphasizes how the reader’s background (including gender, religion, nationality, etc.) affects interpretatio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ader’s Response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ough this approach rejects the idea that a single "correct" reading exists for a literary work, it does not consider all interpretations correc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interpretation must be backed up by evidence in the tex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ader’s Response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mple guiding question: How do the reader’s experiences influence his or her interpretation of the work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ader’s Response Critic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Lion King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mba’s response to his father reminds me of my own relationship to my dad. .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17:26:57Z</dcterms:created>
  <dc:creator>MIS</dc:creator>
  <dc:description/>
  <dc:language>en-US</dc:language>
  <cp:lastModifiedBy>shmurray</cp:lastModifiedBy>
  <dcterms:modified xsi:type="dcterms:W3CDTF">2011-06-15T15:02:56Z</dcterms:modified>
  <cp:revision>4</cp:revision>
  <dc:subject/>
  <dc:title>Introduction to Criticism</dc:title>
</cp:coreProperties>
</file>